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D890-1E66-4C10-A89B-FB2903D42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66E9-1534-476F-A582-5A906A936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369F-B103-4633-BEE0-92A4F50A9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FCD9-B1DE-4343-8580-9B83FFEC2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DD8F-700E-4CCA-B327-BB9468C76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AEAE3-4030-45EA-9B8C-63AF85F6A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E3E0E-5AD7-4FCA-9B60-43703A6A6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28F83-A8B7-4F0D-BCBE-5E1802175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FDD5-6C3B-4979-B256-A59E277BC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2A2E5-B4E2-481D-A5C4-3C8ABDF1A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122E4-C443-47AE-AEEF-BB7E5ADA0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E813-9E0C-4B1F-BB07-CF6A44D41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4AA65-71E5-446A-8B1B-C02F0D4D3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853D7-1CFF-4E41-8B2F-5519486C0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DA667-7E18-4627-85FD-FD2F216D4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98B5D-C4D7-47AF-A95D-90CA41024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BD73-CF03-484B-B0A7-AE02C9B3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EFAF-2DA8-4961-B9C6-89374E15A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58232-4F8F-4541-9DC5-4D3512C43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B7611-801B-422D-A30A-ADED27370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8DFEE-65CE-4310-A20B-4360F60A2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3639A-FD6B-4F9E-865A-FC6A8F0B2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1374-90A2-45F4-B66D-0A3DFD1D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D143-325D-4F65-9724-AE340DBCC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BD31A-09A8-4722-A42D-5AC5D5616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68E70-653B-4A03-9FF1-CF64772E7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F216-B947-4752-B4F5-09D0B8AF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6330-0394-45E7-890E-2BC51629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8CC5-58C0-406C-99A6-CFA6A8973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388B-FB5B-4820-8153-CCD8790A138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4DA8-571C-4EBE-8BD2-4E2B364034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wo 20 minute rotations:  Themed-Discussion Group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Questions: </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what ways do you currently align resources with priorit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what ways could resources be aligned with priorities more effectively?</a:t>
            </a:r>
            <a:endParaRPr b="0" lang="en-US" sz="1800" spc="-1" strike="noStrike">
              <a:solidFill>
                <a:srgbClr val="000000"/>
              </a:solidFill>
              <a:latin typeface="Arial"/>
            </a:endParaRPr>
          </a:p>
        </p:txBody>
      </p:sp>
      <p:pic>
        <p:nvPicPr>
          <p:cNvPr id="115" name=""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conversation starters did you use?  Why were these effective [or not] during your dialog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conversation starters would you use during your SIP / BIP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does a focus on aligning resources with priorities support the other 4 core leadership capacit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enabling structures, conditions and processes are required to effectively align resources with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Journal</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my new learning shifted my thinking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 Leadership Frame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re Leadership Capac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 Board Improvement Planning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 bring this back to my school / boar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ster the courage to interrogate reality.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e out from behind yourself into the conversation and make it real.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e here, prepared to be nowhere else.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ckle your toughest challenge today.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ey your instincts.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ke responsibility for your emotional wake. </a:t>
            </a:r>
            <a:endParaRPr b="0" lang="en-US" sz="2400" spc="-1" strike="noStrike">
              <a:solidFill>
                <a:srgbClr val="000000"/>
              </a:solidFill>
              <a:latin typeface="Arial"/>
            </a:endParaRPr>
          </a:p>
          <a:p>
            <a:pPr marL="272880" indent="-272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 silence do the heavy lifting.</a:t>
            </a:r>
            <a:r>
              <a:rPr b="0" lang="en-CA" sz="2600" spc="-1" strike="noStrike">
                <a:solidFill>
                  <a:srgbClr val="000000"/>
                </a:solidFill>
                <a:latin typeface="Arial"/>
              </a:rPr>
              <a:t> </a:t>
            </a:r>
            <a:endParaRPr b="0" lang="en-US" sz="26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2:35:45Z</dcterms:modified>
  <cp:revision>138</cp:revision>
  <dc:subject/>
  <dc:title>Slide 1</dc:title>
</cp:coreProperties>
</file>